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1.png" ContentType="image/png"/>
  <Override PartName="/ppt/media/image28.wmf" ContentType="image/x-wmf"/>
  <Override PartName="/ppt/media/image16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52A50-1883-4D5A-BA22-14FC881721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26799-4E45-45FA-862F-553B0F7776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DCB65-16A6-4BDF-A571-4573278574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E8A13-7D49-4A48-9A5A-FEC8CF041D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038C4-A863-4916-A7F6-36F54BF9DD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B0DCE-7E31-4D4C-B111-AF1F95257D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15C5E-D2D6-4E9A-B312-B8BEE06A8E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62E56-CB5A-45E8-9BEF-202D9B3ECA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A7EA8-5AB1-45D3-9757-B26498D0E4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75501-6478-4494-B8B0-B11136AD20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B6884-AFFF-4010-BD22-797E144717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E2663-64AE-457C-91EB-011819E96D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6CC90-8FEC-45C1-8216-7F4C6D1F4F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F3B345-7B03-4B17-B5A2-8D1165FB8E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315C6-14A5-4549-833F-5770642070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54EB6-89AE-4ECB-B0C1-68EAA50731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8336F-E4C7-4DC6-99B8-A66BC482DB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ED7CD-1E42-47C4-B1D0-CE7205C2D2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4A349-11DC-4803-AF6A-AC48A988BA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13EEE-7B87-4094-AD63-B20A97EE74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C2E30-74BA-4B81-B1C4-F11B58B2BD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49403-64EC-4761-BD33-6A8A002981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E8EF7-6040-4EDA-9ACE-754E058D4E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7D793-9E86-451B-BE80-7C6B824694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A460403-F45F-4CB7-A59A-79D4BB5CE9D2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48F3DD1-8D7B-4D22-8214-8D537E6AA49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" descr=""/>
          <p:cNvPicPr/>
          <p:nvPr/>
        </p:nvPicPr>
        <p:blipFill>
          <a:blip r:embed="rId2"/>
          <a:stretch/>
        </p:blipFill>
        <p:spPr>
          <a:xfrm>
            <a:off x="5796000" y="189000"/>
            <a:ext cx="2543040" cy="42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5508720" y="326880"/>
            <a:ext cx="2938320" cy="4208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E1DB4C2-6C47-4A8A-9B22-79572D9B91B6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20EF960-2796-466C-BB52-0EB670E493C0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rcentile Bend r=0.24, (downweights outliers; Alternative to nonparametric correlations)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arson r = -0.0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85" name="Picture 5" descr="U:\My Documents\PERCENTAGE BEND R\pbdat.jpeg"/>
          <p:cNvPicPr/>
          <p:nvPr/>
        </p:nvPicPr>
        <p:blipFill>
          <a:blip r:embed="rId1"/>
          <a:stretch/>
        </p:blipFill>
        <p:spPr>
          <a:xfrm>
            <a:off x="1619280" y="2133720"/>
            <a:ext cx="64087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8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5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SPSS M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0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RS (Least Angle regression) available in R is another alternative to stepwise choosing the most parsimonious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ckward less biased by strong correlations between predictors than forwar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utmacher and Kowalski, 2015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on statistical significance and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erba and Pek (2012) Individual Influence on model selection.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sychological Methods 17(4) 582-299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302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sso and Ridge Regression can reduce collinear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shara AJ and Hittner JB (2012) suggest a rank based transformation if outliers are a proble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20-10-08T11:59:35Z</dcterms:modified>
  <cp:revision>318</cp:revision>
  <dc:subject/>
  <dc:title>REGRESSION ANALYSIS</dc:title>
</cp:coreProperties>
</file>